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32A4-773E-44D2-903A-CCFB90B63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7B3C-E112-453A-AD7D-F90B62621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D664-83E2-412F-88C4-E788076E8A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7702-0A9C-42AC-82D5-33531820D6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C200-6C8C-4A56-A18D-9029969B91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C260-4FC5-4169-ACB5-DEFFDD62CC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B443-7855-44A6-A0B9-0D2CD2937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D718-CD9B-4CE9-882A-328D984D04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CD3-09F4-42C6-AFC1-43546CC0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AA7-008B-4B79-9C51-795965B3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7DB-3368-4164-8577-890451DA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733-8637-48AB-B32C-62645E11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098-1F2E-4A22-BFE6-1C4B6A97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2DB-010C-4642-8FC3-DA0176A9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E1A-E5BE-4C86-949A-593579EB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81C-9040-4C83-BD23-AB453A1D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5EE-68B4-4997-B53D-27F1422A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DD7-58C4-453C-B191-C42BDDCB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B45-74F5-4EC0-AAA3-BC3D1786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1F3-52BA-4008-B332-CF3F1600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EE77-AF8C-4C73-96AF-AF43B4B934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hyperlink" Target="http://www.youtube.com/watch?v=tAnlcW_ILy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Three Ways We Persua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os (ha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s (he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s (he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la7198-001"/>
          <p:cNvPicPr/>
          <p:nvPr/>
        </p:nvPicPr>
        <p:blipFill>
          <a:blip r:embed="rId2"/>
          <a:stretch/>
        </p:blipFill>
        <p:spPr>
          <a:xfrm>
            <a:off x="4419720" y="2516040"/>
            <a:ext cx="419076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What is Ethos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05280" y="1676160"/>
            <a:ext cx="75502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fers to credibility, respect or authority a person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questions to as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 trust this person’s judg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I respect this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person an expert or authority figure on the sub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838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MCj04360810000[1]"/>
          <p:cNvPicPr/>
          <p:nvPr/>
        </p:nvPicPr>
        <p:blipFill>
          <a:blip r:embed="rId2"/>
          <a:stretch/>
        </p:blipFill>
        <p:spPr>
          <a:xfrm>
            <a:off x="5473800" y="1371600"/>
            <a:ext cx="3670200" cy="198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5562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Nike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Ethos Exampl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MCj04360770000[1]"/>
          <p:cNvPicPr/>
          <p:nvPr/>
        </p:nvPicPr>
        <p:blipFill>
          <a:blip r:embed="rId2"/>
          <a:stretch/>
        </p:blipFill>
        <p:spPr>
          <a:xfrm>
            <a:off x="6705720" y="2666880"/>
            <a:ext cx="18414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What is Logo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o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ogic used to support a cla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S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MCED00050_0000[1]"/>
          <p:cNvPicPr/>
          <p:nvPr/>
        </p:nvPicPr>
        <p:blipFill>
          <a:blip r:embed="rId2"/>
          <a:stretch/>
        </p:blipFill>
        <p:spPr>
          <a:xfrm>
            <a:off x="7010280" y="380880"/>
            <a:ext cx="1765440" cy="130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ED00050_0000[1]"/>
          <p:cNvPicPr/>
          <p:nvPr/>
        </p:nvPicPr>
        <p:blipFill>
          <a:blip r:embed="rId3"/>
          <a:stretch/>
        </p:blipFill>
        <p:spPr>
          <a:xfrm>
            <a:off x="609480" y="304920"/>
            <a:ext cx="1765440" cy="13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9960" y="58672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Progressive Insurance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gos Example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MCj04360770000[1]"/>
          <p:cNvPicPr/>
          <p:nvPr/>
        </p:nvPicPr>
        <p:blipFill>
          <a:blip r:embed="rId2"/>
          <a:stretch/>
        </p:blipFill>
        <p:spPr>
          <a:xfrm>
            <a:off x="6705720" y="2666880"/>
            <a:ext cx="1841400" cy="130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What is Patho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ho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ing to emotions. Convincing you by how it makes you fe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/anything you might care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cDonalds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Farm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Pathos Exampl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MCj04360770000[1]"/>
          <p:cNvPicPr/>
          <p:nvPr/>
        </p:nvPicPr>
        <p:blipFill>
          <a:blip r:embed="rId2"/>
          <a:stretch/>
        </p:blipFill>
        <p:spPr>
          <a:xfrm>
            <a:off x="6781680" y="2590920"/>
            <a:ext cx="18417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RECAP VIDE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see if we can predict how our little friend Ari will try to persuade his mother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3640" y="388620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Want Pizza For Dinner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1:14:36Z</dcterms:created>
  <dc:creator>Traci Kelly</dc:creator>
  <dc:description/>
  <dc:language>en-US</dc:language>
  <cp:lastModifiedBy>Teacher</cp:lastModifiedBy>
  <dcterms:modified xsi:type="dcterms:W3CDTF">2010-04-26T15:56:26Z</dcterms:modified>
  <cp:revision>14</cp:revision>
  <dc:subject/>
  <dc:title>Ethos, Pathos, Logos</dc:title>
</cp:coreProperties>
</file>