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DE07-ECC6-45C2-97A5-7E25361A6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F54D-05B3-403E-BB0E-D1B41C1AB4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78A2-8FD5-4400-9639-2273EB3CA5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AA36-2675-44E5-95CE-1CB8B3858C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DA2B-2B87-4F5E-B714-A62FEA7BE0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4C99-4561-42C3-A48B-8A52DFF0BF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3A2D-2D7A-4374-83E0-A75522D1D4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09A5-B857-4F8C-872B-531006FC46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2BEC-1775-4046-9C86-93ECA19D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F603-34B6-4A58-8211-B062EBF1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A781-4135-416B-AF78-76E5E0FD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C56B-CF0A-41B3-8E5F-614D95C0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6E4E-6783-4CD2-BA50-5B7298F1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7ACB-3A63-499B-A8E8-52267EE4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2889-F0C9-4ABE-86B7-3B5B903A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DA74-A683-4EBD-AB14-1C0F7A48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0DAA-FD41-404D-8BBF-90F59C21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63EF-73C8-4C64-90EB-39850A1F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EF35-610B-4429-8D04-C7AC90A9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C0AC-F0CF-4AB1-90BA-37B87E4B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D085-3F65-4420-BAB5-08335D123B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hyperlink" Target="http://www.youtube.com/watch?v=tAnlcW_ILyw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The Three Ways We Persua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hos (han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os (hea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s (hea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la7198-001"/>
          <p:cNvPicPr/>
          <p:nvPr/>
        </p:nvPicPr>
        <p:blipFill>
          <a:blip r:embed="rId2"/>
          <a:stretch/>
        </p:blipFill>
        <p:spPr>
          <a:xfrm>
            <a:off x="4419720" y="2516040"/>
            <a:ext cx="4190760" cy="36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What is Ethos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05280" y="1676160"/>
            <a:ext cx="755028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fers to credibility, respect or authority a person 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questions to as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I trust this person’s judgm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I respect this pers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is person an expert or authority figure on the subjec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33520" y="8380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MCj04360810000[1]"/>
          <p:cNvPicPr/>
          <p:nvPr/>
        </p:nvPicPr>
        <p:blipFill>
          <a:blip r:embed="rId2"/>
          <a:stretch/>
        </p:blipFill>
        <p:spPr>
          <a:xfrm>
            <a:off x="5473800" y="1371600"/>
            <a:ext cx="3670200" cy="1981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5562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e7ff"/>
                </a:solidFill>
                <a:latin typeface="Arial"/>
              </a:rPr>
              <a:t>Nike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Commer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Ethos Example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laim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udents should be allowed to use cell phones during school ho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one supporting facts and/or statistics that will support the cla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MCj04360770000[1]"/>
          <p:cNvPicPr/>
          <p:nvPr/>
        </p:nvPicPr>
        <p:blipFill>
          <a:blip r:embed="rId2"/>
          <a:stretch/>
        </p:blipFill>
        <p:spPr>
          <a:xfrm>
            <a:off x="6705720" y="2666880"/>
            <a:ext cx="184140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What is Logos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go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logic used to support a clai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S 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s and 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 ch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MCED00050_0000[1]"/>
          <p:cNvPicPr/>
          <p:nvPr/>
        </p:nvPicPr>
        <p:blipFill>
          <a:blip r:embed="rId2"/>
          <a:stretch/>
        </p:blipFill>
        <p:spPr>
          <a:xfrm>
            <a:off x="7010280" y="380880"/>
            <a:ext cx="1765440" cy="1308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MCED00050_0000[1]"/>
          <p:cNvPicPr/>
          <p:nvPr/>
        </p:nvPicPr>
        <p:blipFill>
          <a:blip r:embed="rId3"/>
          <a:stretch/>
        </p:blipFill>
        <p:spPr>
          <a:xfrm>
            <a:off x="609480" y="304920"/>
            <a:ext cx="1765440" cy="13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9960" y="5867280"/>
            <a:ext cx="37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e7ff"/>
                </a:solidFill>
                <a:latin typeface="Arial"/>
              </a:rPr>
              <a:t>Progressive Insurance Commer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ogos Example: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laim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udents should be allowed to use cell phones during school ho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one supporting facts and/or statistics that will support the cla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5" descr="MCj04360770000[1]"/>
          <p:cNvPicPr/>
          <p:nvPr/>
        </p:nvPicPr>
        <p:blipFill>
          <a:blip r:embed="rId2"/>
          <a:stretch/>
        </p:blipFill>
        <p:spPr>
          <a:xfrm>
            <a:off x="6705720" y="2666880"/>
            <a:ext cx="1841400" cy="1305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" y="609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What is Pathos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ho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ealing to emotions. Convincing you by how it makes you fe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one/anything you might care ab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5562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cDonalds Commer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Farm Commer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Pathos Example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laim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udents should be allowed to use cell phones during school ho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one supporting facts and/or statistics that will support the cla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5" descr="MCj04360770000[1]"/>
          <p:cNvPicPr/>
          <p:nvPr/>
        </p:nvPicPr>
        <p:blipFill>
          <a:blip r:embed="rId2"/>
          <a:stretch/>
        </p:blipFill>
        <p:spPr>
          <a:xfrm>
            <a:off x="6781680" y="2590920"/>
            <a:ext cx="184176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RECAP VIDE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see if we can predict how our little friend Ari will try to persuade his mother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3640" y="388620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Want Pizza For Dinner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1:14:36Z</dcterms:created>
  <dc:creator>Traci Kelly</dc:creator>
  <dc:description/>
  <dc:language>en-US</dc:language>
  <cp:lastModifiedBy>Teacher</cp:lastModifiedBy>
  <dcterms:modified xsi:type="dcterms:W3CDTF">2010-04-26T15:56:26Z</dcterms:modified>
  <cp:revision>14</cp:revision>
  <dc:subject/>
  <dc:title>Ethos, Pathos, Logos</dc:title>
</cp:coreProperties>
</file>