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FA85-A3B8-49E2-A4DF-CC754C1F5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4CF3-CEFD-4827-8965-C12A6C4321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BB8A-9CAB-411E-AB73-3CEF8F9334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B0EE-44D9-4CFA-BA40-018E61A543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A358-F1A6-4C7A-B162-6D3A2178AB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A573-4C24-4217-9187-385DAACB47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9399-A5EA-411A-A6A0-DE91C5A5D5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2B27-457F-4B61-B882-846F2C9458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1F8-F423-44C2-8AB3-1D1DCF89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FA0-1855-48A8-A16F-609CF831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8C1-8B8C-45E9-B487-1A13F888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DD5F-4210-4F53-BE9E-D3BAC72B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9171-529B-41BE-B1A7-925555CE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1A3-B155-4696-A634-4BA3507D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F5C7-3CA6-4C1E-A60E-F400C0C3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7E8-7429-4514-A93D-E4923FF5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506D-DC27-4FD9-A164-11A91801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FE57-7010-4D33-A690-3B220106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A18-CFD4-4507-91D8-6878C99D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7C5-EDC9-404F-978B-F9370D04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696A-E960-4A83-B1ED-2CDEEB7D98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hyperlink" Target="http://www.youtube.com/watch?v=tAnlcW_ILy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he Three Ways We Persua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hos (han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os (he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s (hea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la7198-001"/>
          <p:cNvPicPr/>
          <p:nvPr/>
        </p:nvPicPr>
        <p:blipFill>
          <a:blip r:embed="rId2"/>
          <a:stretch/>
        </p:blipFill>
        <p:spPr>
          <a:xfrm>
            <a:off x="4419720" y="2516040"/>
            <a:ext cx="4190760" cy="36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What is Ethos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05280" y="1676160"/>
            <a:ext cx="75502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fers to credibility, respect or authority a person 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questions to as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 trust this person’s judgm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I respect this pers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is person an expert or authority figure on the subje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33520" y="8380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MCj04360810000[1]"/>
          <p:cNvPicPr/>
          <p:nvPr/>
        </p:nvPicPr>
        <p:blipFill>
          <a:blip r:embed="rId2"/>
          <a:stretch/>
        </p:blipFill>
        <p:spPr>
          <a:xfrm>
            <a:off x="5473800" y="1371600"/>
            <a:ext cx="3670200" cy="1981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5562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e7ff"/>
                </a:solidFill>
                <a:latin typeface="Arial"/>
              </a:rPr>
              <a:t>Nike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Ethos Example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aim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udents should be allowed to use cell phones during school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one supporting facts and/or statistics that will support the cla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MCj04360770000[1]"/>
          <p:cNvPicPr/>
          <p:nvPr/>
        </p:nvPicPr>
        <p:blipFill>
          <a:blip r:embed="rId2"/>
          <a:stretch/>
        </p:blipFill>
        <p:spPr>
          <a:xfrm>
            <a:off x="6705720" y="2666880"/>
            <a:ext cx="184140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What is Logo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go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logic used to support a cla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S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s and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ch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MCED00050_0000[1]"/>
          <p:cNvPicPr/>
          <p:nvPr/>
        </p:nvPicPr>
        <p:blipFill>
          <a:blip r:embed="rId2"/>
          <a:stretch/>
        </p:blipFill>
        <p:spPr>
          <a:xfrm>
            <a:off x="7010280" y="380880"/>
            <a:ext cx="1765440" cy="1308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MCED00050_0000[1]"/>
          <p:cNvPicPr/>
          <p:nvPr/>
        </p:nvPicPr>
        <p:blipFill>
          <a:blip r:embed="rId3"/>
          <a:stretch/>
        </p:blipFill>
        <p:spPr>
          <a:xfrm>
            <a:off x="609480" y="304920"/>
            <a:ext cx="1765440" cy="13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9960" y="5867280"/>
            <a:ext cx="37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e7ff"/>
                </a:solidFill>
                <a:latin typeface="Arial"/>
              </a:rPr>
              <a:t>Progressive Insurance Commer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ogos Example: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aim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udents should be allowed to use cell phones during school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one supporting facts and/or statistics that will support the cla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5" descr="MCj04360770000[1]"/>
          <p:cNvPicPr/>
          <p:nvPr/>
        </p:nvPicPr>
        <p:blipFill>
          <a:blip r:embed="rId2"/>
          <a:stretch/>
        </p:blipFill>
        <p:spPr>
          <a:xfrm>
            <a:off x="6705720" y="2666880"/>
            <a:ext cx="1841400" cy="130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609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What is Patho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ho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ealing to emotions. Convincing you by how it makes you fe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one/anything you might care a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cDonalds Commer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Farm Commer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Pathos Example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aim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udents should be allowed to use cell phones during school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one supporting facts and/or statistics that will support the cla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MCj04360770000[1]"/>
          <p:cNvPicPr/>
          <p:nvPr/>
        </p:nvPicPr>
        <p:blipFill>
          <a:blip r:embed="rId2"/>
          <a:stretch/>
        </p:blipFill>
        <p:spPr>
          <a:xfrm>
            <a:off x="6781680" y="2590920"/>
            <a:ext cx="184176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RECAP VIDE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see if we can predict how our little friend Ari will try to persuade his mother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3640" y="388620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Want Pizza For Dinner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1:14:36Z</dcterms:created>
  <dc:creator>Traci Kelly</dc:creator>
  <dc:description/>
  <dc:language>en-US</dc:language>
  <cp:lastModifiedBy>Teacher</cp:lastModifiedBy>
  <dcterms:modified xsi:type="dcterms:W3CDTF">2010-04-26T15:56:26Z</dcterms:modified>
  <cp:revision>14</cp:revision>
  <dc:subject/>
  <dc:title>Ethos, Pathos, Logos</dc:title>
</cp:coreProperties>
</file>