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76F0-0A57-47D6-B9FC-12B06627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065-9D63-4057-BF62-D3316C5B27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E7B8-A5FD-4336-8F79-0BD3CABDF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A0D-F4DA-4FB6-B7D1-0CF604E80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3611-D305-435D-AFBE-8B2C661547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1A4-3B27-4916-92AD-AB23D7966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CB93-E2BC-4211-AADA-F48DABA57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F134-3771-48C2-8EC0-147AE893F9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BE9-C758-4FCF-B96E-EC43D4DA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8EE-48D8-42F3-AED6-D2668C6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FBD-8953-4E2D-BF77-AE770977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BAF-43FF-4C52-A581-ECA08D5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200-B2AC-41D3-89A1-AED9BAB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107-3B2F-47B6-A070-93E7700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15D-D1AD-4AC6-91A3-675AEB0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F1A-5DCB-4559-82A3-8153492F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E86-DC19-4B1B-A2B3-7CE238D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87A-4A83-4950-AD84-19CEC7E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F63-5622-440C-A2F2-A00D28A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46D-FC10-4233-8053-5E111F5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2642-5052-4811-9371-D272EDC38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youtube.com/watch?v=tAnlcW_ILy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Three Ways We Persua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os (ha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s (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s (he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la7198-001"/>
          <p:cNvPicPr/>
          <p:nvPr/>
        </p:nvPicPr>
        <p:blipFill>
          <a:blip r:embed="rId2"/>
          <a:stretch/>
        </p:blipFill>
        <p:spPr>
          <a:xfrm>
            <a:off x="4419720" y="2516040"/>
            <a:ext cx="419076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hat is Ethos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1676160"/>
            <a:ext cx="75502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s to credibility, respect or authority a person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questions to a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trust this person’s judg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I respect this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person an expert or authority figure on the sub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838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MCj04360810000[1]"/>
          <p:cNvPicPr/>
          <p:nvPr/>
        </p:nvPicPr>
        <p:blipFill>
          <a:blip r:embed="rId2"/>
          <a:stretch/>
        </p:blipFill>
        <p:spPr>
          <a:xfrm>
            <a:off x="5473800" y="1371600"/>
            <a:ext cx="36702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Nik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Log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gic used to support a cla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MCED00050_0000[1]"/>
          <p:cNvPicPr/>
          <p:nvPr/>
        </p:nvPicPr>
        <p:blipFill>
          <a:blip r:embed="rId2"/>
          <a:stretch/>
        </p:blipFill>
        <p:spPr>
          <a:xfrm>
            <a:off x="7010280" y="380880"/>
            <a:ext cx="1765440" cy="130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ED00050_0000[1]"/>
          <p:cNvPicPr/>
          <p:nvPr/>
        </p:nvPicPr>
        <p:blipFill>
          <a:blip r:embed="rId3"/>
          <a:stretch/>
        </p:blipFill>
        <p:spPr>
          <a:xfrm>
            <a:off x="609480" y="304920"/>
            <a:ext cx="1765440" cy="13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9960" y="58672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Progressive Insurance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gos Example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Path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ing to emotions. Convincing you by how it makes you f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/anything you might car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Donalds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Farm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a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MCj04360770000[1]"/>
          <p:cNvPicPr/>
          <p:nvPr/>
        </p:nvPicPr>
        <p:blipFill>
          <a:blip r:embed="rId2"/>
          <a:stretch/>
        </p:blipFill>
        <p:spPr>
          <a:xfrm>
            <a:off x="6781680" y="2590920"/>
            <a:ext cx="18417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 VIDE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see if we can predict how our little friend Ari will try to persuade his moth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3640" y="388620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Want Pizza For Dinn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1:14:36Z</dcterms:created>
  <dc:creator>Traci Kelly</dc:creator>
  <dc:description/>
  <dc:language>en-US</dc:language>
  <cp:lastModifiedBy>Teacher</cp:lastModifiedBy>
  <dcterms:modified xsi:type="dcterms:W3CDTF">2010-04-26T15:56:26Z</dcterms:modified>
  <cp:revision>14</cp:revision>
  <dc:subject/>
  <dc:title>Ethos, Pathos, Logos</dc:title>
</cp:coreProperties>
</file>