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9994-B668-4E92-B7CA-02827CE54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87B5-24A5-4E07-B757-1987187F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373-C82C-4457-A8A5-43D599D6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AC3-D93C-435A-AD1D-A13CC383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293-90F1-4BA6-AA60-796E5B43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70F-DA66-4C78-87EF-0F8D9F95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99E1-9E9A-4EC8-9F62-6AFFD279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2676-5064-486F-891C-EAFE90D1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A77A-E810-44E4-A69B-7531CA1E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D680-9680-4C65-9368-33784EC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B25E-3992-4299-89B9-BB62D491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1E79-E553-4D92-A89E-6D9C443A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3071-1976-4B7F-B9AE-5D0C245A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3DC-B2B2-4DE4-B1A4-87F60558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2567-1870-4AC0-A530-D5FAF647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5A5A-01ED-49EB-BEF4-1CA53E3A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053-3016-4434-A99C-1930D9B7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8700-D9FD-4F01-95BE-92BE86D5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7931-6A79-442F-A9C0-EA1A43D4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24B-4EEE-4FAF-B7AC-732C48D4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C70-FB82-4B32-8918-DEC88B7B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E0B-38CA-4369-9D90-B4B7EDCA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113-35FC-4D67-91C7-3FBFD17E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43C-627F-4856-8803-0C94C37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EF0-9A5D-4DED-93A4-64E293B2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B3C-790E-4E65-AE94-572BE83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21E9-3EF5-483F-A093-71824AC40F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5643-C3FB-48A6-BB93-B409390EA4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: Reading Key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Circle Key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erm is a word or phrase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to the meaning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irst time, let’s do thi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we look for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s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ain, let’s read and underline main id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rticle (AKA what it is trying to tell us)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thi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finish the article and try marking the text ag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t: 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Underli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rst, read the rest without mar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, 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! Do you see any repeating words or variations on the word (including the words we have already circ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r: Put your papers side by side and see if you circled the same things. If not, ask your partner, “Why did you circle tha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underline main ide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Underli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you see information ab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, how much of this did we answ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fter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reading the text, my view of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connection to schoo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 changed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: first, _________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econd, 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______________ my belief that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significant question this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s for me is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, this text taught me 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part argument stat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_______title of text______,”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reports that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. 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ACT report,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LA ci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ademic writing, it is very important to show where a text you are using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are used to buil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ver th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reading “______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ticle tit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,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hould reflect on how I feel about read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t will determine success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later. I believe that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you feel about rea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come to believe this because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you feel this 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_. 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, I feel that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tting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nd practice reading strategy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r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text before we 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sential 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read, it is good to familiarize yourself with the vocabulary you’ll encou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we begi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IMPORTANT that everyone gets a chance to read this section without feeling 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aintain SILENCE during SILENT READING. If you finish early, read the section again to notice something you didn’t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r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ragraphs 1-5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r/Sha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 Discuss with your partner some things you notice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way to isolate information in a text in order to understand it better. Marking has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ke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uthor’s claims (most important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number the paragraphs together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a pencil!    Use a pencil!    Use a penc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8:18Z</dcterms:created>
  <dc:creator>Rick Millican</dc:creator>
  <dc:description/>
  <dc:language>en-US</dc:language>
  <cp:lastModifiedBy>michelle cadwell</cp:lastModifiedBy>
  <dcterms:modified xsi:type="dcterms:W3CDTF">2010-03-15T01:57:01Z</dcterms:modified>
  <cp:revision>7</cp:revision>
  <dc:subject/>
  <dc:title>Study: Reading Key to Success</dc:title>
</cp:coreProperties>
</file>