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0512-80A9-46CE-82FC-CD8E9EB70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CAB1-311E-469F-97D4-BE23C93E6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74F8-A1B0-49FB-A23C-90469B4B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1FF-F176-4A78-8D25-E70A1CF0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18E8-924F-4235-8042-612E25C6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6E65-2D22-4182-B8DA-32C19CED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4E78-6D02-4F94-94F2-125CACA0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93CE-6897-434D-8749-CBA9DB38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410E-456D-4FFA-B69C-E94A6ABA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E2A5-5A8F-45D0-9A31-C2EDB4B8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D4FE-4496-40D7-BDCE-D2C46D19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2569-6F32-4207-AB32-1637DF8F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CF81-DFE3-47E5-A0C3-BF7CEA87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D307-EC1E-4F74-8BE6-0FDF85BF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5DBE-0FEA-4016-9C2F-EA81C315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049A-A9F6-46DD-B528-403FEBE6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02D8-93C9-4D3A-8CD0-02260BE4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28C2-CF0D-490A-A40B-EA9B38F0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C23D-59B0-49B0-AA37-1DA6118F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FE1-F010-43A5-8B56-A933E61C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DDA-7AEE-4287-9250-6DE97B05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C4DB-2BE1-437D-8EC4-5DE0F4FE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8C2D-441B-4027-8046-320160FB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445-8BEF-4097-8784-286273C3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256-83C6-4E4F-A967-186037EC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B03-549E-4A19-942C-E97FEF2F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9923-CAED-4CC3-B1F1-BF80F7E537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F1A0-950B-47E6-A3FA-937B732DCC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: Reading Key to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 and Circle Key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y term is a word or phrase tha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important to the meaning of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first time, let’s do this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things we look for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ing wo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tions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gain, let’s read and underline main ide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looking for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id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article (AKA what it is trying to tell us)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ails or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thi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t’s finish the article and try marking the text agai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’s the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rest: What did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/Circle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/Underline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rst, read the rest without mar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/Circle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ime, you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! Do you see any repeating words or variations on the word (including the words we have already circ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o Your Neighbor: Put your papers side by side and see if you circled the same things. If not, ask your partner, “Why did you circle tha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 and underline main ide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: Underlin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re you see information abou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, how much of this did we answe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y reading is so connected to college succes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o sponsored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evidence (How do they know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conclusions and recommendations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fter 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 reading the text, my view of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its connection to school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 changed for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ons: first, ______________________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second, ___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______________ my belief that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ost significant question this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ses for me is 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, this text taught me ___________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-part argument stat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“_______title of text______,” 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thor’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 and last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 reports that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. Acco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ACT report,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LA ci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cademic writing, it is very important to show where a text you are using came f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ations are used to build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s Ci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go over the p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fore 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reading “______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ticle tit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,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hould reflect on how I feel about reading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it will determine success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nd later. I believe that ____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you feel about rea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come to believe this because ____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y you feel this w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_______. Alth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, I feel that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tting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urpose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r read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and practice reading strategy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ing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y reading is so connected to college succes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o sponsored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evidence (How do they know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conclusions and recommendations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re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ook at the text before we rea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sential Vocabul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we read, it is good to familiarize yourself with the vocabulary you’ll encou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fore we begi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VERY IMPORTANT that everyone gets a chance to read this section without feeling ru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we maintain SILENCE during SILENT READING. If you finish early, read the section again to notice something you didn’t the firs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 read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ragraphs 1-5 sil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ir/Shar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notice? Discuss with your partner some things you noticed in the art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rking the tex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ing the 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way to isolate information in a text in order to understand it better. Marking has 3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the para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 key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line author’s claims (most important id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t’s number the paragraphs together…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se a pencil!    Use a pencil!    Use a penci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0:08:18Z</dcterms:created>
  <dc:creator>Rick Millican</dc:creator>
  <dc:description/>
  <dc:language>en-US</dc:language>
  <cp:lastModifiedBy>michelle cadwell</cp:lastModifiedBy>
  <dcterms:modified xsi:type="dcterms:W3CDTF">2010-03-15T01:57:01Z</dcterms:modified>
  <cp:revision>7</cp:revision>
  <dc:subject/>
  <dc:title>Study: Reading Key to Success</dc:title>
</cp:coreProperties>
</file>