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B793-749A-499C-A5EF-1922A84B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E6A-A580-457C-8534-6B45DCD7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F54-3AD8-416D-A087-8850191A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F5C-4714-4ACE-81EA-A151B436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30A-6D21-4DF6-AAC4-6784CE81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355-285B-432B-BF75-5AEE68FA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ABF5-AE32-42D6-A0CD-69B3663A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C94C-1225-44DE-BCEE-9458BBB4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9DA-651C-4BFC-904A-C7AD635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9DDF-947E-483F-9CD1-C4B575F5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7596-B17A-4389-B086-7AF1FE79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EB73-DA11-465F-AB1C-0C1E3EB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4131-C3A0-499E-99E9-138B5148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393-773C-4A9F-852E-59714E33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99BE-6ED8-4175-B5BB-5012048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012A-B4AE-433A-B131-A26825E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FB6B-EB24-40EC-A8B0-0FF8060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616-CE4F-4513-8513-D0DC8CE3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F553-09B8-49D4-B662-6A9ECD0B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AC8-1C7B-441D-896D-13190E4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002-2FD5-438C-9FBD-E41E65B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DD6-5BBF-488B-B260-D3E56FBE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AD4-F260-4F23-B099-D004C867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FE0-F84B-44A6-B1AE-FF347E1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56F-29CB-406C-BDA1-0E2A885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443-847F-4FBA-AD3D-9864DBC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DA72-BE9A-4082-8AD3-C0C7902087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7DB-706A-4FD9-A167-06DC95CB90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ading “______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ticle tit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hould reflect on how I feel about read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t will determine success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later. I believe that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you feel about 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me to believe this because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you feel this 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_. 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, I feel that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michelle cadwell</cp:lastModifiedBy>
  <dcterms:modified xsi:type="dcterms:W3CDTF">2010-03-15T01:57:01Z</dcterms:modified>
  <cp:revision>7</cp:revision>
  <dc:subject/>
  <dc:title>Study: Reading Key to Success</dc:title>
</cp:coreProperties>
</file>