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532F-310A-486C-8970-A3E30D65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6A60-5C87-485A-A4A9-EF13AD87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32A-4351-4423-BE50-53482C62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A4A-2AE7-4C64-8CB6-CACD64F1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32A-2E09-405C-83E4-3D5A0EA5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E50-C042-4A2B-9916-C6D4DBFA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5B14-3CC4-46B6-9CBE-669395B4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EBC-F8B0-48B0-AE6E-BCAEBEF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4DE2-D1EB-4633-B6B9-5A182234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C050-91D0-4055-9615-D79D57F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B6B2-A75D-4A05-88B2-554BC70C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2067-E297-40EF-B9F8-FC22228D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2D27-8D0E-45CC-9F2C-908B7DB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01B-F9B9-4F89-B6A9-30773B4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841-D5F7-415D-8DEC-6405B51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7D8-5DEC-4891-B1A5-A0B638DD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F245-544B-430D-8B93-DB6E2625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6F13-8861-4022-AA1E-20EC3FEB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0BF-B4DC-401C-9967-AEAF7DEA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D53-6860-4D5C-AC38-11B2A85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D7A-E88D-4F45-93F3-7F8E551C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F0A-87BB-4CD6-809E-E4EDAFD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65E-9044-495B-805D-F52A49F1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E89-F623-43FC-ADC5-30A2051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DAF-CB18-4495-AD4D-4FC4407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4D8-1F4D-43EF-89EA-88CD7F72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D997-7160-4FE7-A356-4EB7D461B2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A26A-C444-4EA9-8DC7-93B8747977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ading “______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ticle tit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ld reflect on how I feel about read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t will determine success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later. I believe that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you feel about 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me to believe this because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you feel this 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_. 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, I feel that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michelle cadwell</cp:lastModifiedBy>
  <dcterms:modified xsi:type="dcterms:W3CDTF">2010-03-15T01:57:01Z</dcterms:modified>
  <cp:revision>7</cp:revision>
  <dc:subject/>
  <dc:title>Study: Reading Key to Success</dc:title>
</cp:coreProperties>
</file>