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E126-2D59-4817-B0DF-F966A1ADF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068B-2C72-4722-A560-0BD51C942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70D-C460-4C4D-9946-137DC7E4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2A6-A22C-4A41-98EA-9E3350CF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8F2-6E2A-4588-B124-9D1534CF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44D-E861-4E0F-B2B7-F9860A29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8707-8B23-42ED-9E64-7330F13B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85D8-9F23-4A25-B3B6-CD9ED568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12BF-7D5D-4F77-AF83-1338A925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AF3C-170E-4B24-98B6-3B5D58AA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CDF1-272C-4EE1-B35D-F702AB82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22ED-7C0A-4DA2-9812-293827A4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6F91-16E7-4F42-BE5F-F964C2A2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C42-31DF-4CCD-8309-893A2963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1184-15B1-4B0E-80A5-AE193E61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ACF4-6455-4B85-A61F-03A90093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7539-DC18-4579-A36E-5056B327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FB4C-F456-4BF5-9A99-CD6258A6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8E38-F89E-4AD5-95C7-8B5087AD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CF1-68D2-4F9C-A72D-B38B6069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FE05-5702-4F39-8F53-A1412F12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872-FE99-4A29-B9C8-B6F884CF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76F-8CC5-4835-867C-F99CF61B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0DC-155A-40EB-BC0B-5E61C348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A9F-090B-448C-8881-B117BBB6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22C-E74A-486C-A93E-8DC5FDC0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48F0-2E9A-4AFD-ACD4-5C2076A9AE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38E0-8F9B-4780-9A48-0830108265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: Reading Key to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 and Circle Key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term is a word or phrase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important to the meaning of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irst time, let’s do thi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hings we look for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 w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tions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ain, let’s read and underline main ide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looking for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article (AKA what it is trying to tell us)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ails or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thi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’s finish the article and try marking the text agai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 the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rest: 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Circl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Underlin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rst, read the rest without mar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/Circl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ime, you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! Do you see any repeating words or variations on the word (including the words we have already circ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Your Neighbor: Put your papers side by side and see if you circled the same things. If not, ask your partner, “Why did you circle tha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 and underline main ide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: Underlin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you see information abo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, how much of this did we answe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y reading is so connected to college succes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o sponsored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evidence (How do they kn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onclusions and recommendations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fter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 reading the text, my view of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its connection to school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 changed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s: first, ______________________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second, __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______________ my belief that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ost significant question this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ses for me is 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, this text taught me ___________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-part argument stat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“_______title of text______,” 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hor’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 reports that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. Acco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ACT report,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LA ci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cademic writing, it is very important to show where a text you are using came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are used to buil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 C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over the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fore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reading “______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ticle tit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,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hould reflect on how I feel about reading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it will determine success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d later. I believe that ____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you feel about rea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come to believe this because ____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you feel this 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_______. Al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, I feel that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tting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urpose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read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nd practice reading strategy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y reading is so connected to college succes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o sponsored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evidence (How do they kn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onclusions and recommendations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re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the text before we rea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sential Vocabul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we read, it is good to familiarize yourself with the vocabulary you’ll encou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fore we begi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VERY IMPORTANT that everyone gets a chance to read this section without feeling ru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we maintain SILENCE during SILENT READING. If you finish early, read the section again to notice something you didn’t the fir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 rea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ragraphs 1-5 sil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r/Shar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notice? Discuss with your partner some things you noticed in the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way to isolate information in a text in order to understand it better. Marking has 3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the para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 ke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ine author’s claims (most important id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’s number the paragraphs together…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e a pencil!    Use a pencil!    Use a penci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08:18Z</dcterms:created>
  <dc:creator>Rick Millican</dc:creator>
  <dc:description/>
  <dc:language>en-US</dc:language>
  <cp:lastModifiedBy>michelle cadwell</cp:lastModifiedBy>
  <dcterms:modified xsi:type="dcterms:W3CDTF">2010-03-15T01:57:01Z</dcterms:modified>
  <cp:revision>7</cp:revision>
  <dc:subject/>
  <dc:title>Study: Reading Key to Success</dc:title>
</cp:coreProperties>
</file>