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EA0C-6040-4212-BACD-0D0ED6A7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6AED-8F0E-4A2C-8F23-6DC641C4CA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EEC-B1E9-4684-9CA2-C545088F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A2E-547F-4A68-B3FC-7AACE737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AD9-388E-430D-BD85-ECEE7B5A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BDA-8A6F-4BCF-A030-BDA10B12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8064-C796-4542-86AC-B41F56E2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B66D-5870-49D7-AF21-912C601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37BD-F22F-42E0-BE54-C331AB4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31B1-01AF-4A3D-8700-39707545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DCAF-0C5C-4546-A5F5-D17E7359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1734-508B-4F62-8BD0-3BF4BB11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2940-E4B9-45C0-87EC-15AC0F77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C08-FD3B-4648-A0A3-686D9F08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CD14-7701-4383-B600-5C661043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D7B4-6302-4375-A7DC-4D64E68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5AF7-8405-483E-BDD2-C64932C4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54CE-DD64-4F12-B9C7-28D13730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F0B0-59EB-4780-8459-6C01511E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EDD-843B-407F-B6A7-40033FB1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C7C-4D0B-4675-95E8-1BE4B6A8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CAF-D964-446A-9370-F146DE72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78A-B869-4597-B971-0496621B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AEB-484F-461B-BC81-A67DC3A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DA8-BBA2-4857-B41A-347F3BE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453-24EE-490F-BE49-C4B3178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EE8E-5BBF-4815-AB52-B6B83036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7AC-3AA9-4651-95D2-DE5FDD0B4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atulations! You are a freshman in high school Englis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goal is to become literate and educated citizens who show respect and responsibility for ourselves, our families, our community, our democracy, our wor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success_spiral"/>
          <p:cNvPicPr/>
          <p:nvPr/>
        </p:nvPicPr>
        <p:blipFill>
          <a:blip r:embed="rId1"/>
          <a:stretch/>
        </p:blipFill>
        <p:spPr>
          <a:xfrm>
            <a:off x="1828800" y="990720"/>
            <a:ext cx="706284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0800" y="426708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year you will learn skills, raise reading ability and improve your attitude about rea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7200" y="2057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possible to reverse the spiral into a positive on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you se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can reverse the negativity that goes along with not feeling you are good at some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can give you the skills to make your spiral a positive on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’s get started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mark of an educated person is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ritical thinking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ns the ability to read, write, speak, and listen wel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thin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eans the ability to apply knowledge and literacy skills in order to solve complex problems for ourselves, our families, our community, our nation, and our wor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is key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best wa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 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bout complex sub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being able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ly thi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ding literac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key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college and to getting a good job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reading is hard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u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f I told you I could make you into a better read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uaranteed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you be interest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year I am going to teach you to read better by showing y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ritical reading skills are guaranteed to improve reading ability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es, you’ll have to put out effort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ke anything, you will have to try, keep trying, and practice the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ood news i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…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y is it that some people don’t like reading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be some people just don’t like it. But for most people, it’s because reading is very difficul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’t feel they are very good at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give up and stop try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gative Reading Spir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ownward_spiral_test"/>
          <p:cNvPicPr/>
          <p:nvPr/>
        </p:nvPicPr>
        <p:blipFill>
          <a:blip r:embed="rId1"/>
          <a:stretch/>
        </p:blipFill>
        <p:spPr>
          <a:xfrm>
            <a:off x="1828800" y="1371600"/>
            <a:ext cx="6910560" cy="515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5800" y="2971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people find their attitude and ability to read on a downward spiral. Over time, it gets worse and wor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there is hope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last real reading lesson was probably back in elementary school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let’s try learning some skills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do, we’ll turn that Negative Reading Spiral into a Positive Reading Spiral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7:50:32Z</dcterms:created>
  <dc:creator>Rick Millican</dc:creator>
  <dc:description/>
  <dc:language>en-US</dc:language>
  <cp:lastModifiedBy>michelle cadwell</cp:lastModifiedBy>
  <dcterms:modified xsi:type="dcterms:W3CDTF">2010-03-15T01:45:28Z</dcterms:modified>
  <cp:revision>4</cp:revision>
  <dc:subject/>
  <dc:title>Welcome to Freshman English!</dc:title>
</cp:coreProperties>
</file>