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EA63-DDCE-473B-853B-F55BC2FA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95C6-B95A-4810-9CDD-345800FB23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C3E-C784-4F4B-88DA-DDA3C008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F07-8E34-4BE4-95A4-09976593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4CA-238C-46EF-B514-E501760B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035-2EAE-4379-93D2-78EF351B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71F4-957C-464F-B22C-FE2F066E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D8CF-C228-4EEC-B5D6-E49C6CC2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D3ED-0946-4A2C-B448-5D8CD89B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8FF5-2D2E-4B06-B3C3-15532FFF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7C8F-4D54-419D-ADAB-1A0CC2E9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DEEB-F243-4151-8784-7F770EC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AC12-E33B-4C29-98BB-4E1FF78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BDD-2170-4086-B76F-411D58A7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800A-0841-4051-8BB1-2B37A445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80C8-BFEF-4537-BEB5-B2EE4888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67CD-F5F8-44DD-A38A-F1F25D8D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F5CB-75C3-4D7C-9601-5651B14D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2B77-4DD7-409A-9E98-F3AEE8F7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0DC-F411-4C1D-9E4A-81F0E88D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833-3761-40AD-A1F5-933194A5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854-F02A-4E51-89F0-773E02AC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208-2017-4CCD-8BA0-0D0B165F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D7A-F1B9-424C-82ED-8BE3B977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98B-B629-4FCF-9614-7759A2E7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DC0-E879-4EEF-9C86-2CAABA7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5D71-ACC0-40D5-BEBC-24035B6D4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B603-8C54-4A6C-BCCC-4BDEE042B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gratulations! You are a freshman in high school Englis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sion Statemen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goal is to become literate and educated citizens who show respect and responsibility for ourselves, our families, our community, our democracy, our worl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success_spiral"/>
          <p:cNvPicPr/>
          <p:nvPr/>
        </p:nvPicPr>
        <p:blipFill>
          <a:blip r:embed="rId1"/>
          <a:stretch/>
        </p:blipFill>
        <p:spPr>
          <a:xfrm>
            <a:off x="1828800" y="990720"/>
            <a:ext cx="706284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400800" y="426708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year you will learn skills, raise reading ability and improve your attitude about read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57200" y="2057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possible to reverse the spiral into a positive on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, you se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can reverse the negativity that goes along with not feeling you are good at someth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can give you the skills to make your spiral a positive on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’s get started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mark of an educated person is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ritical thinking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ns the ability to read, write, speak, and listen wel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think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eans the ability to apply knowledge and literacy skills in order to solve complex problems for ourselves, our families, our community, our nation, and our wor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is key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best way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o 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bout complex sub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being able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ly thi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 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ucces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n college and to getting a good job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reading is hard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u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f I told you I could make you into a better reader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uaranteed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uld you be interest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year I am going to teach you to read better by showing you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ctiv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 are guaranteed to improve reading ability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Yes, you’ll have to put out effort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ke anything, you will have to try, keep trying, and practice the skil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the good news i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y is it that some people don’t like reading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be some people just don’t like it. But for most people, it’s because reading is very difficul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don’t feel they are very good at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give up and stop try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ga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downward_spiral_test"/>
          <p:cNvPicPr/>
          <p:nvPr/>
        </p:nvPicPr>
        <p:blipFill>
          <a:blip r:embed="rId1"/>
          <a:stretch/>
        </p:blipFill>
        <p:spPr>
          <a:xfrm>
            <a:off x="1828800" y="1371600"/>
            <a:ext cx="6910560" cy="5154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85800" y="2971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people find their attitude and ability to read on a downward spiral. Over time, it gets worse and wors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there is hope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last real reading lesson was probably back in elementary school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, let’s try learning some skills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you do, we’ll turn that Negative Reading Spiral into a Positive Reading Spiral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7:50:32Z</dcterms:created>
  <dc:creator>Rick Millican</dc:creator>
  <dc:description/>
  <dc:language>en-US</dc:language>
  <cp:lastModifiedBy>michelle cadwell</cp:lastModifiedBy>
  <dcterms:modified xsi:type="dcterms:W3CDTF">2010-03-15T01:45:28Z</dcterms:modified>
  <cp:revision>4</cp:revision>
  <dc:subject/>
  <dc:title>Welcome to Freshman English!</dc:title>
</cp:coreProperties>
</file>