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B31A-99A4-4F00-836C-E627F734B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A474-3547-4389-8980-89827FBBA2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C95-7AC6-4105-AD55-861E5197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0BD-93AF-467B-8253-5C19A794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0D8-5737-4B27-8ABE-41B256B0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E15-9236-4D4C-A7E1-416B9C73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F213-9B75-4253-8CAD-D71A6624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3656-6A5E-4EF0-A1C6-1377676D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9F57-E204-43AD-BF19-5EA600FD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09C8-1836-4E41-AE26-82EB2D8C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32FF-925C-4768-8F3B-E547CCE3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DF80-7E93-42B5-B6ED-B146033E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7077-B505-4FA2-9044-899EF36B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DBB-2049-4CAE-A8B7-D4207820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055E-AED0-4206-9E12-17F77128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7991-283E-429C-B670-51612C41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569C-852B-4D5A-B09F-0D861C9C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B411-4F33-4794-ABFE-F43DA207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4C73-96F8-4983-8377-064EAFEE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FBA-3EC8-4ACD-8DE1-BA5324D2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165-9FBB-4E5A-A8FF-C762246D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FE8-D5C1-4D7C-A704-850F870A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64E-A666-432D-B5CB-4831E0EC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E90-3405-455E-9C98-233CFBD3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164-62D5-41C7-959C-417F2D47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704-9119-4682-A3DF-F72C0860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8010-1472-4603-9ACB-76A914D30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634B-142E-4017-809E-0A7011915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gratulations! You are a freshman in high school English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sion Statemen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goal is to become literate and educated citizens who show respect and responsibility for ourselves, our families, our community, our democracy, our world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itive Reading Spir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success_spiral"/>
          <p:cNvPicPr/>
          <p:nvPr/>
        </p:nvPicPr>
        <p:blipFill>
          <a:blip r:embed="rId1"/>
          <a:stretch/>
        </p:blipFill>
        <p:spPr>
          <a:xfrm>
            <a:off x="1828800" y="990720"/>
            <a:ext cx="7062840" cy="5638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400800" y="426708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year you will learn skills, raise reading ability and improve your attitude about read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57200" y="20574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possible to reverse the spiral into a positive on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, you see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can reverse the negativity that goes along with not feeling you are good at someth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 can give you the skills to make your spiral a positive one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t’s get started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mark of an educated person is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iteracy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ritical thinking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ans the ability to read, write, speak, and listen wel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think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means the ability to apply knowledge and literacy skills in order to solve complex problems for ourselves, our families, our community, our nation, and our worl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is key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the best way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o 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bout complex sub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key to being able to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ly thin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 literac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key to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ucces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n college and to getting a good job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ut reading is hard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u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f I told you I could make you into a better reader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…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uaranteed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uld you be interest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itical Reading Skil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year I am going to teach you to read better by showing you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ctiv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reading skil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reading skills are guaranteed to improve reading ability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Yes, you’ll have to put out effort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ke anything, you will have to try, keep trying, and practice the skill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t the good news i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…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wor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y is it that some people don’t like reading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ybe some people just don’t like it. But for most people, it’s because reading is very difficul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don’t feel they are very good at 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give up and stop try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gative Reading Spir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downward_spiral_test"/>
          <p:cNvPicPr/>
          <p:nvPr/>
        </p:nvPicPr>
        <p:blipFill>
          <a:blip r:embed="rId1"/>
          <a:stretch/>
        </p:blipFill>
        <p:spPr>
          <a:xfrm>
            <a:off x="1828800" y="1371600"/>
            <a:ext cx="6910560" cy="5154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685800" y="2971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y people find their attitude and ability to read on a downward spiral. Over time, it gets worse and wors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ut there is hope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r last real reading lesson was probably back in elementary school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, let’s try learning some skills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you do, we’ll turn that Negative Reading Spiral into a Positive Reading Spiral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7:50:32Z</dcterms:created>
  <dc:creator>Rick Millican</dc:creator>
  <dc:description/>
  <dc:language>en-US</dc:language>
  <cp:lastModifiedBy>michelle cadwell</cp:lastModifiedBy>
  <dcterms:modified xsi:type="dcterms:W3CDTF">2010-03-15T01:45:28Z</dcterms:modified>
  <cp:revision>4</cp:revision>
  <dc:subject/>
  <dc:title>Welcome to Freshman English!</dc:title>
</cp:coreProperties>
</file>