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5FB3-2464-485D-8E2F-3856B41A5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99B2-7108-4E89-8B31-749CDC429C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781-F3E8-42D1-B3CA-246A5D6B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CAD-CA44-4573-991F-A0E0FABC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4E7-3839-4DBA-B72D-3998EC31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A50-03E4-4DB3-ACAB-71F2BDFB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659A-F2AD-4146-AA1B-90176B4F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F021-9539-4109-801E-33FD60F4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0543-8893-41C8-88CD-1A681D85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4C01-8AAC-4ABF-8FF6-6A1C5739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9B7A-3D2C-4864-BED1-0562CE74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6CE0-C3E9-4D12-BB68-9F87845C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8CF3-E959-433D-B5EE-13C554E3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9B30-E17D-4382-B1A1-B7C27B18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042E-00C5-44D7-B3FF-903AB1EE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8788-2C80-4301-8461-937698F9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860F-74B5-4738-A80F-49999D4D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D06C-9108-4B79-8595-A2B83806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71C7-C9B4-4A70-A0AF-A317F2AA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E09E-0369-47F3-BDF1-C30CC380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98A-DD49-4517-8EB6-28BA7954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D171-EE74-41DD-81DD-08C7CE13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F94-10D7-49AA-8702-B2168FBD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035-5401-4C7D-9A9E-3494CE1F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AC2A-16B2-4D89-A3F4-156B3439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CA7-A6F3-4E53-A09E-534343CA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EEBF-DCAD-4459-BCC4-20FEC86B0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EA56-258D-4D62-99E1-38E35CCE8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gratulations! You are a freshman in high school English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ssion Statemen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r goal is to become literate and educated citizens who show respect and responsibility for ourselves, our families, our community, our democracy, our world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itive Reading Spir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success_spiral"/>
          <p:cNvPicPr/>
          <p:nvPr/>
        </p:nvPicPr>
        <p:blipFill>
          <a:blip r:embed="rId1"/>
          <a:stretch/>
        </p:blipFill>
        <p:spPr>
          <a:xfrm>
            <a:off x="1828800" y="990720"/>
            <a:ext cx="7062840" cy="5638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400800" y="426708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year you will learn skills, raise reading ability and improve your attitude about read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57200" y="20574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is possible to reverse the spiral into a positive on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, you see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can reverse the negativity that goes along with not feeling you are good at someth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 can give you the skills to make your spiral a positive one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t’s get started!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mark of an educated person is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iteracy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ritical thinking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ans the ability to read, write, speak, and listen wel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 think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means the ability to apply knowledge and literacy skills in order to solve complex problems for ourselves, our families, our community, our nation, and our worl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ading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is key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ad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the best way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o 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bout complex sub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ad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key to being able to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ly thin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ading literac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key to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ucces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n college and to getting a good job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ut reading is hard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u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f I told you I could make you into a better reader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…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uaranteed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uld you be interest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itical Reading Skil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year I am going to teach you to read better by showing you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ctiv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 reading skil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 reading skills are guaranteed to improve reading ability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Yes, you’ll have to put out effort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ke anything, you will have to try, keep trying, and practice the skill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t the good news is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…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wor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y is it that some people don’t like reading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ybe some people just don’t like it. But for most people, it’s because reading is very difficul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don’t feel they are very good at i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give up and stop try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gative Reading Spir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downward_spiral_test"/>
          <p:cNvPicPr/>
          <p:nvPr/>
        </p:nvPicPr>
        <p:blipFill>
          <a:blip r:embed="rId1"/>
          <a:stretch/>
        </p:blipFill>
        <p:spPr>
          <a:xfrm>
            <a:off x="1828800" y="1371600"/>
            <a:ext cx="6910560" cy="5154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685800" y="2971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y people find their attitude and ability to read on a downward spiral. Over time, it gets worse and wors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ut there is hope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r last real reading lesson was probably back in elementary school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, let’s try learning some skills!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you do, we’ll turn that Negative Reading Spiral into a Positive Reading Spiral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17:50:32Z</dcterms:created>
  <dc:creator>Rick Millican</dc:creator>
  <dc:description/>
  <dc:language>en-US</dc:language>
  <cp:lastModifiedBy>michelle cadwell</cp:lastModifiedBy>
  <dcterms:modified xsi:type="dcterms:W3CDTF">2010-03-15T01:45:28Z</dcterms:modified>
  <cp:revision>4</cp:revision>
  <dc:subject/>
  <dc:title>Welcome to Freshman English!</dc:title>
</cp:coreProperties>
</file>