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86A2-1963-4188-9DAD-FBECCBC5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AD16-D87B-449E-800C-6864E1F9E51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1D5-AFE1-4E3C-B6F4-C6EE4EC84B3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228-7750-4FD5-8E04-5B3D2F7FCC1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2780-B542-4F5A-98C0-7187D93C6CF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30D-6CBE-4468-B843-6D71823115F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1337-1B1E-4393-916A-70B3234EA09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0F8E-5627-4098-85B3-F761CBA2145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9F1-F6B3-442F-B0AD-3BC94634462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71E-ABB5-41C7-8A0D-4371B1660F6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5DAF-C802-43FA-8EF2-3B06DE80B6B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9C55-B4C1-4EDC-95E9-B4540332BEF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6F77-AFDD-44E3-9076-E9FCA646DC6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7E0-5E2B-4063-A15F-0FFF622D23D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B356-E9F9-47C1-BC7E-A1ED7CE6BAE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5DA-DA39-4282-9584-72DE97F1879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69F3-9958-4E09-89A8-2562CCB263D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8E6F-D2FF-4B9F-AA1C-AF829CCDB74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ACD-2D70-4973-9BDD-F159A6168D0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EA62-C8E1-4903-9FF8-0FB4AE40F5B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1D2-4A63-4890-A244-992F1EC7FB7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612C-B333-4EA9-8756-EDBF71834A7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C9E-7BB9-4D59-90C0-C5C10886D24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586-6727-4D31-A826-8C01A2CFC8C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6C94-21B0-41C4-8B3D-1E999A20BF8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FCF-382E-42A0-981C-6771AE5EC04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6EC-B593-4A3D-B8CE-D1269DDEE3D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B8B7-D71D-4812-A704-90DA10E9923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C09-42F5-4FBB-B5AC-704799F260D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7F26-9466-4530-905B-D00C901CC3A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C53-59D0-451F-A15A-8DB2942CC52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EB02-750A-4E88-9BD7-852EE11AEF0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4868-6841-440A-A365-8848A1B00B4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F0BC-9AD4-4A04-A614-39BA92A326B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1E1-B42D-4CA1-BAA5-3729A73A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A3F-6890-4580-B472-3EA8BDE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3AB-D39B-455D-B121-4F02C9FE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5E8-009E-4018-810B-923C595D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8D4C-59D6-4869-84B4-254C5F9B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4F13-13F6-440D-BB4F-FD3F0083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C02F-B6A2-4B08-9034-6FB5C6F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98D-255D-4BC5-8EDD-5E51827E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953-A251-40C0-BE80-102D7FE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6B0C-FA84-43C4-B7A6-0E7A7633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9B79-490A-4F17-B03A-F75CA62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FDC-B93E-4DEC-B3C5-83E52C36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F62-2703-4F0B-8641-987ACAB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16C-7AA4-4E7E-B5F2-335281F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4F7-7606-4304-AB50-D4F4CA7F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E2DF-E1D4-49A8-A701-9B0E63CD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2B7-EFE2-4EEF-9C02-9403AB4B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56C-93F0-4E82-B8D1-8D07B8E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780-30C7-41CC-AD17-6B28DE4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094-14CC-4478-B7DD-C78D22C7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CC7-CFAC-49A9-87DF-B38D6D6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E66-E436-4190-8532-33D7136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F92-6D76-4FB1-B1EB-4AF6E40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FC7-6FFA-415D-AF6B-40F6EAC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34A4-3430-43A1-A763-8EA85C99B3A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489-6177-4862-A0C8-24682DBB2E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one-dimensional, or flat, characters in ridiculous situation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’s use of 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eshadowing often helps to build suspense as well as to prepare readers for what is to com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7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9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that compares or equates two or more things that have something in common.  A metaph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oes 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us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eeling or atmosphere that an author creates in a literary work.  The mood can suggest a specific emotion, such as excited or scar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that is a combination of seemingly contradictory word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in which an animal, object, force of nature, or idea is given human qualities or characteristic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major division of a play.  Many long plays have several acts; short plays often have only one a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using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to compare seemingly unlike things.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3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a play, a comment made by a character that is heard by the audience or another character but is not heard by the other characters on stage. (stage whisper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4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otes Reflection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thing I learned about the elements of drama that I did not know before is_________ .  This new information might help me better underst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he Tragedy of Romeo and Julie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__________ . I am most looking forward to _____________________  while reading the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 provide information to the audience and to reveal the private thoughts of character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7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hort, funny episode that interrupts an otherwise serious or tragic work of drama.  Such an episode may break the tension after a particularly intense scen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2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hen a character struggles against some outside force, such as another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ithin the mind of a character who is torn between different courses of action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tory written to be performed by actors in front of an audien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ichelle cadwell</cp:lastModifiedBy>
  <dcterms:modified xsi:type="dcterms:W3CDTF">2009-03-19T16:07:37Z</dcterms:modified>
  <cp:revision>36</cp:revision>
  <dc:subject/>
  <dc:title>Elements of Drama</dc:title>
</cp:coreProperties>
</file>