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27E-8090-4245-8ED2-26D3B924C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472-328E-478D-AF72-6A6B773CA89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40F5-7363-4E2E-979E-30FAC7295D6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0F8-8E34-46E6-9B4F-D92D13251E2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6AD9-994D-4E00-AB48-A31C7937241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335C-8D99-4E3C-8F69-1CFFC06ECA7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6BF-4FDF-4E7E-9EFB-EF151B0FCFB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7A1B-3323-4616-B843-1EEE06BADC6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F5E-FC9B-427C-9612-80C410B8748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0D41-EDCC-4838-B051-2FB97BD440B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612A-4831-44E8-93A3-130B10629D7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2AC-5950-4C63-8F5B-8A953D32A72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BD78-4634-46ED-8D4E-8BABC3D4551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E0A-D73D-4828-8181-C26C7EA9CAC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6697-EFB1-456C-A528-87DA965493D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917-D190-4A29-993C-9E012D2B61D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F93-64D9-4C34-8D25-363E691B287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A04-2BB2-4E98-BC9D-A0039C81220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0E7-CCC5-44BE-8760-F2F24A6F7AC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2A7-9D4A-4795-9E79-0B8B867B044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1657-01AD-40B9-A18E-8890050E473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3D7-A9C2-4BBF-B4A6-7D607F02AE6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C5B6-4F2E-4E34-B631-491892BF225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F98E-86C7-428B-897B-6C79546F747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6E9F-0282-4B68-8AE3-3F810AD2332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DC7-DE76-446C-8960-B6461EEA313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D4B-B31C-41E3-A52D-81C6995775A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A2A5-0379-4EFC-B503-0A3BC8B378D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B797-A2FA-496F-809D-4476D2DE347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2A22-3B0A-4229-8661-C27E475E2E8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2AF-F58A-470A-B6DC-12B125E7F7F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2ED7-9EA9-4AC2-834B-DD3B9EC91A1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1338-4245-4C10-926A-F8787941CDE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FDA-13D7-42F1-9867-4ADE699D95A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B89-27DD-427B-A724-848F6DB2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B06-6558-481B-BEE8-E805F61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D53-A360-4DEA-8496-3D980E47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1D9-356C-4938-BFBD-178307D0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9C1-9C1C-417C-BAA0-A0D77110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DF0B-349E-4182-A12B-DE0E4405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4B63-D371-4C48-9835-C3F48E1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CFF8-94A1-41B0-833D-09861E5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0198-DDB8-4988-A11C-863BBEC8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E1F5-8286-4D0A-BFF6-FAA19B00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96E-B56C-47EB-AA7D-4EA905D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DA1-5C2E-4AE6-87D4-7602D790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CC4-B830-4E5B-B856-DA06E6B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07D-81E3-4DB5-91BE-0A486B8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C20A-E07B-408C-85A8-055653F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F25D-7AED-43BB-96BC-ACC2E91B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87D-722F-456E-A89E-CCCF2479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D4F-33C6-401D-91E4-586376C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A7E-54D3-4939-86BE-8ABC0A7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258-2C66-4CF4-A68D-F553D93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BD6-3BA3-4C46-8FB8-088A5087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0CF-295C-4584-8742-236FDA7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A0A-FED1-4EDC-85B3-F15849D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8EA-06DD-4B12-9611-C6264D80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65A2-F479-4F82-9514-DDDF3863724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6B66-EECD-47AA-8B92-101C1A51BE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one-dimensional, or flat, characters in ridiculous situation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author’s use of 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eshadowing often helps to build suspense as well as to prepare readers for what is to com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7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9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that compares or equates two or more things that have something in common.  A metaph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oes 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us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eeling or atmosphere that an author creates in a literary work.  The mood can suggest a specific emotion, such as excited or scare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that is a combination of seemingly contradictory word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igure of speech in which an animal, object, force of nature, or idea is given human qualities or characteristic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major division of a play.  Many long plays have several acts; short plays often have only one a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figure of speech using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lik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to compare seemingly unlike things.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3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a play, a comment made by a character that is heard by the audience or another character but is not heard by the other characters on stage. (stage whisper)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4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otes Reflection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thing I learned about the elements of drama that I did not know before is_________ .  This new information might help me better underst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he Tragedy of Romeo and Julie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__________ . I am most looking forward to _____________________  while reading the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 provide information to the audience and to reveal the private thoughts of character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7" descr="http://www.marinshakespeare.org/images/04/othello_Iago_whisper2.jpg"/>
          <p:cNvPicPr/>
          <p:nvPr/>
        </p:nvPicPr>
        <p:blipFill>
          <a:blip r:embed="rId1"/>
          <a:stretch/>
        </p:blipFill>
        <p:spPr>
          <a:xfrm>
            <a:off x="5105520" y="1295280"/>
            <a:ext cx="27590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hort, funny episode that interrupts an otherwise serious or tragic work of drama.  Such an episode may break the tension after a particularly intense scen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2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hen a character struggles against some outside force, such as another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ists within the mind of a character who is torn between different courses of action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tory written to be performed by actors in front of an audien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ichelle cadwell</cp:lastModifiedBy>
  <dcterms:modified xsi:type="dcterms:W3CDTF">2009-03-19T16:07:37Z</dcterms:modified>
  <cp:revision>36</cp:revision>
  <dc:subject/>
  <dc:title>Elements of Drama</dc:title>
</cp:coreProperties>
</file>