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FCF1-45D3-4215-A1B3-DC9C1C0C6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5B05-0D96-4409-8D0B-D605394B756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B30E-02F4-4934-A5C9-90FF672849C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BCD6-D7AB-425D-9023-BC297357050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3E28-D9E3-48BA-B557-D978430DB46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B540-B14C-4BFD-89FA-654CBCF3D1E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2411-2704-40F2-826B-AD34A420F6D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D139-5937-48B7-B587-9CBF90B215B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0C31-572B-425F-9071-25437BD33AD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25D-3B14-443A-8912-28E62B78A87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2F31-5E52-46C1-BE17-9E38A22DE1C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5B1C-4ED2-4B70-9EF8-1B2632F9458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F1D-938B-4DEE-B2EA-3FA1DBEF061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A0AB-1CD8-4B6D-BDB3-E540E446CF0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B8F-543B-4AA9-9850-96C01A48E59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660E-4C55-4420-87D8-11F1E6B87D6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731-4715-4E3E-982A-145978AC02C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10EB-DBD5-466F-9CB4-E2EEAD0CB28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056-8AF2-491F-8EE8-AF0CD7AFC18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45E8-3626-47A6-91BD-C65820DBF68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0FDD-75E7-4578-9E8C-16AFF59753F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52A-BAA7-4AFB-A883-F83F82250D1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8C20-F64D-45B9-90EA-7CD48E184D1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1F32-12BD-48B9-AA49-F1E4A45C3FE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42B-86B0-4DDA-9255-6B7974A26FE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B895-C201-4E4C-8057-FE6CC67E96A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70E1-4161-4373-9B02-10514F202B9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6579-A5DB-4695-8F63-32055826A8F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3DF8-59AA-4989-9B52-8E76B1136EE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566B-DDB0-4B5F-A0B1-AEEF4BBAF76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137-4560-4A0B-B244-C44745A5308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561E-ED0A-4F8D-B32D-33001E6FDB0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0BF-F7FB-4AF7-9878-5211951C173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443E-6FB1-4281-8305-E98B72B0327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3E7-5BDE-4F8C-A7B8-1BFDD87B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36A-CCE0-419F-9563-ABCE4EC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2C1-5AD9-4271-BD42-83281436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A97-BF60-4BC0-B630-F332D6EA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43E2-0C5D-4F4E-9974-96C08E03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AA2-9900-4F91-88E9-4B14A4CE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B96A-CC4C-4C0C-BA3D-16A6CBA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536F-3C43-4A65-B5FB-D6958C6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3DE-5E83-4910-AED8-1AEDCDBC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A5B-1E7C-44DA-B497-33FC9750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F4D9-4FCA-42ED-BEBE-5083FCF3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FE0-8695-4727-B9AE-9F635C5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001A-2714-4736-AF10-7D70150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2CFB-8581-45BF-89B7-62FA2C2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0C31-5CED-4BB2-BCF5-583B0D63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5F0E-B7E6-46B7-92A3-267310A5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B8DD-CE5B-4680-80E1-06FA16FB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2CF-1914-4D6C-9E22-1317E078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054-717F-44E3-8323-AF711164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360-F6CB-4A24-85E2-081258CB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25B-0B11-4366-B4C2-9AC9BAB1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CF4-F006-4077-8E66-D2F188A1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343-840D-47DC-8083-6769497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25B-446B-4A1B-B60A-27F9E96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456-69E4-4B40-AEE9-34673679B1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DFD-90ED-47EF-9E77-DC6C59A4BC9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ELEMENTS </a:t>
            </a:r>
            <a:br>
              <a:rPr sz="6000"/>
            </a:b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OF DRAMA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Romeo and Juli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y William Shakespe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type of comedy that provokes laughter by placing one-dimensional, or flat, characters in ridiculous situation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5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FOI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4800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haracter who provides a strong contrast to another character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foil may emphasize another character’s distinctive traits or make a character look better by comparis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7" descr="http://www.mckellen.com/images/1490.jpg"/>
          <p:cNvPicPr/>
          <p:nvPr/>
        </p:nvPicPr>
        <p:blipFill>
          <a:blip r:embed="rId1"/>
          <a:stretch/>
        </p:blipFill>
        <p:spPr>
          <a:xfrm>
            <a:off x="3276720" y="60948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ESHADOW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’s use of clues that hint at events that will occur later in the pl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eshadowing often helps to build suspense as well as to prepare readers for what is to com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al of the usual word order in a prose sentence or line of poetry, for emphasis or variet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7" name="Rectangle 9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9" name="Picture 13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TIONAL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actual outcome of a situation is the opposite of what is expected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7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TIC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reader knows something that a character does not know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that compares or equates two or more things that have something in common.  A metaph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oes 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use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8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eeling or atmosphere that an author creates in a literary work.  The mood can suggest a specific emotion, such as excited or scare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that is a combination of seemingly contradictory word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in which an animal, object, force of nature, or idea is given human qualities or characteristic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0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0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major division of a play.  Many long plays have several acts; short plays often have only one ac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eo and Juliet has 5 act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tory that is told through the use of dialogue.             (a conversation between characters in a literary work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Dia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logue brings characters to life by revealing their personalities and by showing what they are thinking and feeling as they react to other charac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Picture 7" descr="http://iml.umkc.edu/theatre/sound/shakes/9copy.jpg"/>
          <p:cNvPicPr/>
          <p:nvPr/>
        </p:nvPicPr>
        <p:blipFill>
          <a:blip r:embed="rId1"/>
          <a:stretch/>
        </p:blipFill>
        <p:spPr>
          <a:xfrm>
            <a:off x="5562720" y="1676520"/>
            <a:ext cx="27414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troduction of an act. The chorus tells what is going to happen in the play.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1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1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ater slang for articles or objects used in a play or movie. (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prop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rties)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humorous play on two or more meanings of the same word or on two different words with the same soun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E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ubdivision of an act in a play.  Each scene usually takes place in a specific setting and time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http://www.rfdesigns.org/graphics/comedy.jpg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cene 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5028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cene allows the author of the play to create a sense o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etting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time and place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7" descr="http://www.amherst.edu/library/archives/exhibitions/play/images/sha-jc-set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3640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using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to compare seemingly unlike things.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3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long speech delivered by a character who is alone onstag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oliloquy typically reveals the private thoughts and emotions of the charac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7" descr="http://www.tes.co.uk/upload/2128585/scotshappiness.jpg"/>
          <p:cNvPicPr/>
          <p:nvPr/>
        </p:nvPicPr>
        <p:blipFill>
          <a:blip r:embed="rId1"/>
          <a:stretch/>
        </p:blipFill>
        <p:spPr>
          <a:xfrm>
            <a:off x="5437080" y="1676520"/>
            <a:ext cx="29926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play, written instructions that explain how characters should look, speak, move, and behav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a play, a comment made by a character that is heard by the audience or another character but is not heard by the other characters on stage. (stage whisper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4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main idea or message of a literary work.  Theme is not the subject of the work but instead is an insight about life or human natur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ED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play in which a main character, called the tragic hero, suffers a downfall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IC F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eakness within the character of a tragic hero that causes the hero to suffer a downfall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otes Reflection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thing I learned about the elements of drama that I did not know before is_________ .  This new information might help me better underst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he Tragedy of Romeo and Julie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__________ . I am most looking forward to _____________________  while reading the pl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As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ides are frequently used to provide information to the audience and to reveal the private thoughts of character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7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se written in unrhymed lines of iambic pentameter, a rhythm pattern with 5 units, or feet, each of which has an unstressed syllable followed by a stressed syll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796000" y="1819440"/>
            <a:ext cx="3043080" cy="3057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hort, funny episode that interrupts an otherwise serious or tragic work of drama.  Such an episode may break the tension after a particularly intense scen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2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hen a character struggles against some outside force, such as another character, nature, society, or fat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3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ithin the mind of a character who is torn between different courses of action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tory written to be performed by actors in front of an audien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49:05Z</dcterms:created>
  <dc:creator> scott killen</dc:creator>
  <dc:description/>
  <dc:language>en-US</dc:language>
  <cp:lastModifiedBy>michelle cadwell</cp:lastModifiedBy>
  <dcterms:modified xsi:type="dcterms:W3CDTF">2009-03-19T16:07:37Z</dcterms:modified>
  <cp:revision>36</cp:revision>
  <dc:subject/>
  <dc:title>Elements of Drama</dc:title>
</cp:coreProperties>
</file>