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2B57-4EA7-43D4-B80A-C0D5BA6A4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1B08-3EC1-49A9-B9FB-789E8690016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D566-473A-4745-8BB9-AEF3EFB7A18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97BE-2B3B-4573-977D-68E733575BC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9873-36AE-4ECD-84D0-63495DA43BE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73F0-85A3-4C4E-A80E-3885D237C8B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88F8-F986-45B5-8343-D6E3369A6EF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78FB-9B04-4865-952D-997FB741057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A6FE-2B33-408F-9C3A-5F87EFF1646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7976-6F74-45D9-9268-1176E5ABB76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52D4-3F50-4929-A2AE-8AEA67461C7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D09-18AC-45B4-8A00-78A0A961E93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2B58-6672-49D6-B92E-0EB6D696582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D0C-DF10-46F8-BC7C-1F82B52345B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055B-FC81-4ED1-B94A-7B46AD740A0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D3F8-5C77-4553-AC5B-31F876FEBFD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99B7-D162-46CE-A36E-AAB38EBC05E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53B-B002-4729-BA97-804A76B8BF2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7C3-B105-4A61-B1F3-B3680E007C7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FFC-CAB0-4763-AFEA-1DF3BFE0F8E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04B-0E73-47F0-A649-40C75B3D9C2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969-73D5-4DC8-AF0E-D6B0770FB97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DD35-B3A8-43E0-8C00-07AE42AA449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3295-223F-4243-A177-F8ABD263209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D9EF-FD7E-4EB2-A3F4-2527CB12A8E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7783-4E6F-4CBB-BF8E-80091D4D1A0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E2CD-6B26-40A5-8B92-2B6284F929C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4F8B-20B0-4EE8-8B81-60B56DCB763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82DC-0706-422E-9132-9A27C89B9CC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49C-1238-4265-9862-67BAAFD509F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4D33-3D46-4522-9E65-CCD26D45E6C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630E-BD3A-478C-B68B-2BFA43E9698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D41-CA9D-482B-AAA7-BF0756CBDCC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4CE6-977E-4DFB-8DE5-12A0AC5F27C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137-A1E7-4A31-B73F-67EE05C9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3BD-AEEE-4186-AACF-E65E6A8E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185-2C70-48F1-A91F-6AA8E86D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27A-DF10-4F98-835D-5D5F3418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229C-9EBC-4F25-8FCF-F63A7D20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F762-E433-43DC-BB94-AF940D31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4B65-4377-42EA-A44B-0004F75C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28A-74F4-454C-8A9A-65DF105C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35CE-C058-40CD-AA79-B605A90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EC94-C1D1-43F4-897C-D378F67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807D-3413-4341-B2D1-A6B081C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6F5-D0DC-4002-B493-2AEA7DF7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D752-708E-4B59-9154-9C325D7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17F5-6887-40F8-AE2B-0E84759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5923-54F9-445F-B740-E9216398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390-F5FC-49A5-9E8F-A9929805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68B8-CCCF-4B89-AE66-E148F8D3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43D-EEA7-4979-937A-D3CFD275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16B-5259-4EE9-88E7-FD198FB3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D36-5EF3-4A49-B410-B20ABD5A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0D3-0C50-4D69-A736-DCAD43D5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BE9-8FD5-4338-9648-C9CDD2AA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C17-9939-4CBB-AB95-7FCA2AAC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8C8-F40C-4F42-8D6B-814C2169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6E6D-4CE1-463D-AD1A-2FF5967856D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CC5D-B614-4432-A9FD-E6963AD13F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ELEMENTS </a:t>
            </a:r>
            <a:br>
              <a:rPr sz="6000"/>
            </a:b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OF DRAMA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Romeo and Juli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y William Shakespe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A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type of comedy that provokes laughter by placing one-dimensional, or flat, characters in ridiculous situation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5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5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FOI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4800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haracter who provides a strong contrast to another character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foil may emphasize another character’s distinctive traits or make a character look better by comparis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7" descr="http://www.mckellen.com/images/1490.jpg"/>
          <p:cNvPicPr/>
          <p:nvPr/>
        </p:nvPicPr>
        <p:blipFill>
          <a:blip r:embed="rId1"/>
          <a:stretch/>
        </p:blipFill>
        <p:spPr>
          <a:xfrm>
            <a:off x="3276720" y="609480"/>
            <a:ext cx="533376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ESHADOW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’s use of clues that hint at events that will occur later in the pl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eshadowing often helps to build suspense as well as to prepare readers for what is to com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al of the usual word order in a prose sentence or line of poetry, for emphasis or variet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7" name="Rectangle 9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9" name="Picture 13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TIONAL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actual outcome of a situation is the opposite of what is expected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7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TIC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reader knows something that a character does not know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igure of speech that compares or equates two or more things that have something in common.  A metaph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oes 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use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8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eeling or atmosphere that an author creates in a literary work.  The mood can suggest a specific emotion, such as excited or scare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figure of speech that is a combination of seemingly contradictory words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igure of speech in which an animal, object, force of nature, or idea is given human qualities or characteristic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0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0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major division of a play.  Many long plays have several acts; short plays often have only one ac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meo and Juliet has 5 act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1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1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tory that is told through the use of dialogue.             (a conversation between characters in a literary work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Dia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logue brings characters to life by revealing their personalities and by showing what they are thinking and feeling as they react to other charact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Picture 7" descr="http://iml.umkc.edu/theatre/sound/shakes/9copy.jpg"/>
          <p:cNvPicPr/>
          <p:nvPr/>
        </p:nvPicPr>
        <p:blipFill>
          <a:blip r:embed="rId1"/>
          <a:stretch/>
        </p:blipFill>
        <p:spPr>
          <a:xfrm>
            <a:off x="5562720" y="1676520"/>
            <a:ext cx="27414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troduction of an act. The chorus tells what is going to happen in the play.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1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1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ater slang for articles or objects used in a play or movie. (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prop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rties)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humorous play on two or more meanings of the same word or on two different words with the same soun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CE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ubdivision of an act in a play.  Each scene usually takes place in a specific setting and time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http://www.rfdesigns.org/graphics/comedy.jpg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the Scene 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5028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cene allows the author of the play to create a sense o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etting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time and place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7" descr="http://www.amherst.edu/library/archives/exhibitions/play/images/sha-jc-set.jpg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3640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figure of speech using 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lik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a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to compare seemingly unlike things.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3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4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LILOQU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long speech delivered by a character who is alone onstag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oliloquy typically reveals the private thoughts and emotions of the charac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7" descr="http://www.tes.co.uk/upload/2128585/scotshappiness.jpg"/>
          <p:cNvPicPr/>
          <p:nvPr/>
        </p:nvPicPr>
        <p:blipFill>
          <a:blip r:embed="rId1"/>
          <a:stretch/>
        </p:blipFill>
        <p:spPr>
          <a:xfrm>
            <a:off x="5437080" y="1676520"/>
            <a:ext cx="29926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AGE DIREC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 play, written instructions that explain how characters should look, speak, move, and behav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4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S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a play, a comment made by a character that is heard by the audience or another character but is not heard by the other characters on stage. (stage whisper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4" descr="http://www.marinshakespeare.org/images/04/othello_Iago_whisper2.jpg"/>
          <p:cNvPicPr/>
          <p:nvPr/>
        </p:nvPicPr>
        <p:blipFill>
          <a:blip r:embed="rId1"/>
          <a:stretch/>
        </p:blipFill>
        <p:spPr>
          <a:xfrm>
            <a:off x="5105520" y="1295280"/>
            <a:ext cx="27590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main idea or message of a literary work.  Theme is not the subject of the work but instead is an insight about life or human natur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5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ED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play in which a main character, called the tragic hero, suffers a downfall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6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IC F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weakness within the character of a tragic hero that causes the hero to suffer a downfall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6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otes Reflection 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thing I learned about the elements of drama that I did not know before is_________ .  This new information might help me better underst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he Tragedy of Romeo and Julie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__________ . I am most looking forward to _____________________  while reading the pla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As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ides are frequently used to provide information to the audience and to reveal the private thoughts of character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7" descr="http://www.marinshakespeare.org/images/04/othello_Iago_whisper2.jpg"/>
          <p:cNvPicPr/>
          <p:nvPr/>
        </p:nvPicPr>
        <p:blipFill>
          <a:blip r:embed="rId1"/>
          <a:stretch/>
        </p:blipFill>
        <p:spPr>
          <a:xfrm>
            <a:off x="5105520" y="1295280"/>
            <a:ext cx="27590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NK 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se written in unrhymed lines of iambic pentameter, a rhythm pattern with 5 units, or feet, each of which has an unstressed syllable followed by a stressed syllabl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796000" y="1819440"/>
            <a:ext cx="3043080" cy="3057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C RELIE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hort, funny episode that interrupts an otherwise serious or tragic work of drama.  Such an episode may break the tension after a particularly intense scen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2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ists when a character struggles against some outside force, such as another character, nature, society, or fat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3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ists within the mind of a character who is torn between different courses of action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tory written to be performed by actors in front of an audien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49:05Z</dcterms:created>
  <dc:creator> scott killen</dc:creator>
  <dc:description/>
  <dc:language>en-US</dc:language>
  <cp:lastModifiedBy>michelle cadwell</cp:lastModifiedBy>
  <dcterms:modified xsi:type="dcterms:W3CDTF">2009-03-19T16:07:37Z</dcterms:modified>
  <cp:revision>36</cp:revision>
  <dc:subject/>
  <dc:title>Elements of Drama</dc:title>
</cp:coreProperties>
</file>